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0BB-41DC-4D4B-9C53-E5FF7047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DCF-8FE0-4E4F-BC97-DB5E3CD0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8A9-E4B3-4002-ABE7-B06E18AF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90C-8C36-44D2-A7A6-5521F24A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3E0-7514-43C6-ABB3-891F5451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137-B1BA-4718-9121-7A426CC0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7AF-C9A3-4D86-83D6-2E55281D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194-C903-46FB-BD95-64CC697B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8A8-5290-4283-B138-7D9769DD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356-EBC7-4EF8-971F-638BB1A6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F28-00C3-46CC-BBB2-63B1F61D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C21-D086-41F0-B6C5-508543B5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64C3-6690-4EBB-BBA3-3DAD621363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ason" TargetMode="External"/><Relationship Id="rId2" Type="http://schemas.openxmlformats.org/officeDocument/2006/relationships/hyperlink" Target="http://en.wikipedia.org/wiki/Goal-oriented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henrysebastian.files.wordpress.com/2008/06/far-side-3.jpg"/>
          <p:cNvPicPr/>
          <p:nvPr/>
        </p:nvPicPr>
        <p:blipFill>
          <a:blip r:embed="rId1"/>
          <a:stretch/>
        </p:blipFill>
        <p:spPr>
          <a:xfrm>
            <a:off x="2241720" y="457200"/>
            <a:ext cx="4660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ctive reasoning: featur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uction, in contrast to deduction, only gives us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ikelihood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ather than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ertain knowled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Its probable truth can be increased with extra inform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we added the same piece of information as before - mothers of football players like their children to wear protective helmets – this time, we might feel more confident about our concl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swers to the questions on the hand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ction – the future is bigger than the p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duction – from the general (dolphins) to the specific (bottle-nosed dolphi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ction – from the specific to the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ction – what he has seen doesn’t ensure he won’t see it in the fu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duction – although it makes an assumption that all human beings can think rationally (which may not be true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ction – there are other factors at stake beyond the crime act for the cause of crime, so it is not dealing with certain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duction – the first premise is a scientific law that applies to all spe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ction – scientists infer from insufficient (albeit likely)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How do we use reason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s of rea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mbers: noun…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power of the mind to think, form opinions and judgements, reach logical conclusions, et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ED: noun…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power of the mind to think, understand, and form judgements log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ikipedia: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as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s the ability of the human mind to form and operate on concepts in abstraction, in an ordered and usually a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goal-oriente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an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many ways to ‘think, form opinions and judgements, reach logical conclusions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one end of the spectrum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al or creative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is thinking creatively to come up with a likely answer to a situation or problem. It may not give us CERTAIN KNOWLEDGE, but it provides us with a good probability of something being tr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the other en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reasoning or log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used properly, it brings us close to CERTAIN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ductive reasoning: featur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take a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enera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ule or principle to work out a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cific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onclusion about something. An example would be to s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All American football players wear protective helmets when they play football (premis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ean is an American football player (premise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refore, he must wear a helmet when he plays football (conclu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ductive reasoning: featur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gives us CERTAIN KNOWLEDGE, which cannot be clarified even if we add extra inform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we said, for example, that parents of American football players like to see their children wearing helmets, it wouldn’t make our knowledge of how he is dressed any more certain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ctive reasoning: featur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oppo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take a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cific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onclusion that we have made about something and use it to work out a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enera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ule or principle. S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ean is wearing a protective helm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ean is a football pl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refore, it is likely that all football players wear white protective helmets when they play foot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9:56:07Z</dcterms:created>
  <dc:creator>IT Systems Department</dc:creator>
  <dc:description/>
  <dc:language>en-US</dc:language>
  <cp:lastModifiedBy>Michael Dunn</cp:lastModifiedBy>
  <dcterms:modified xsi:type="dcterms:W3CDTF">2013-09-20T13:22:33Z</dcterms:modified>
  <cp:revision>10</cp:revision>
  <dc:subject/>
  <dc:title>How do we use reason?</dc:title>
</cp:coreProperties>
</file>